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0DEC64AD-E3E7-415D-87D9-56F8AA70E0FB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F5DD1C0D-5976-4C14-BF9E-1DF088703754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63D-EAC7-44B8-BED5-F369220E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623-D37B-4B61-91C2-BF19DF90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0C9-E128-494A-8183-C4C574DB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B2D-38B4-4406-ABBF-9A9F4CE3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37A-110F-46F0-B180-996BA327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894-3A12-4800-B52C-EC5A6EEC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A0A-E002-4E00-92BA-ABCC8174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373-DBCE-4310-9C17-F1C2D0BA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CA8-6847-4552-88FE-A67DE6AD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01B-B9FA-4568-BDA2-F608FD12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772B-92EA-4AAB-AEDC-D2634B13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C60-5873-41E6-947B-35A1727F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582E-0933-4BD8-99BB-6CB15F5628D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aracterísticas do Lix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50920" y="1844640"/>
            <a:ext cx="8569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seguida deverão ser escolhidos cinco recipientes de capacidade e pesos próprios conhecidos (tambores vazio de 200 litros usados para armazenar óleo são idea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cipientes serão preenchidos até a borda com o lixo do “quarto” selecionado. O recipiente cheio de lixo passa a ser o elemento básico de estudo. Através dele é possível ob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251280" y="435780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peso especifico mé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50920" y="5106960"/>
            <a:ext cx="83534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so líquido de lixo (em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so Específ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peso líquido de lixo (em Kg) / Volume total dos latões (em m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so Líquido de lix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peso total dos latões cheios - peso próprio dos latões vaz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253440" y="191628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omposição gravimé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250920" y="2492280"/>
            <a:ext cx="835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hegar a esta proporção será preciso escolher dois dos tambores contendo lixo e proceder à separação manual dos seguintes compon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apel e papel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lást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dei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uro e borrach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ano e estop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lha, mato e galh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téria orgânica (restos de comid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etal ferro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etal não-ferroso (alumínio, cobre, etc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vid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louça, cerâmica e ped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53440" y="191628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omposição gravimé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250920" y="2705040"/>
            <a:ext cx="554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hegar a esta proporção será preciso escolher dois dos tambores contendo lixo e proceder à separação manual dos seguintes compon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gregado fino, isto é, todo o material peneirado em malha de uma polegada (1”) e de difícil catação, composto de pós, terra, grãos de arroz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seguida, deve ser determinado o peso de cada um dos materiais sepa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nalmente, através de regra de três simples, será obtido o percentual em peso de cada componente ou seja, a composição gravimétrica do lix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3" descr=""/>
          <p:cNvPicPr/>
          <p:nvPr/>
        </p:nvPicPr>
        <p:blipFill>
          <a:blip r:embed="rId2"/>
          <a:stretch/>
        </p:blipFill>
        <p:spPr>
          <a:xfrm>
            <a:off x="5911920" y="2781360"/>
            <a:ext cx="3052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255240" y="1994040"/>
            <a:ext cx="263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 teor de um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322200" y="269568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defini-lo, é preciso começar separando uma amostra de até 2 kg de lixo de um dos tambores. Essa amostra será levada a uma estufa, onde deverá permanecer até alcançar peso constante (24 horas a 105°C ou 48 horas a 75°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material resultante deverá ser pesado. Uma regra de três simples determinará o teor de umidade do lix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250920" y="148428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começar a pensar em um serviço de limpeza urbana é preciso identificar as características dos resíduos gerados, pois a “cara” do lixo varia conforme a cidade, em função de diversos fatores, como por exemplo, a atividade dominante (industrial, comercial, turística, etc.), os hábitos e costumes da população (principalmente quanto à alimentação) e o cli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8" descr=""/>
          <p:cNvPicPr/>
          <p:nvPr/>
        </p:nvPicPr>
        <p:blipFill>
          <a:blip r:embed="rId3"/>
          <a:stretch/>
        </p:blipFill>
        <p:spPr>
          <a:xfrm>
            <a:off x="2050920" y="3659040"/>
            <a:ext cx="504036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250920" y="1484280"/>
            <a:ext cx="8569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cidades se transformam sem parar. Dentro de uma mesma comunidades, as características vão se modificando com o decorrer dos anos, tornando necessários levantamentos periódicos visando a atualização de d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a três áreas principais a investig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412200" y="3789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416160" y="4765680"/>
            <a:ext cx="286920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quí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410760" y="5726160"/>
            <a:ext cx="3010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bi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50920" y="2332080"/>
            <a:ext cx="57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mposição gravimétrica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traduz o percentual de cada componente em relação ao peso total do lix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412200" y="1557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tretch/>
        </p:blipFill>
        <p:spPr>
          <a:xfrm>
            <a:off x="6084720" y="260280"/>
            <a:ext cx="2762280" cy="3105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250920" y="3657600"/>
            <a:ext cx="856908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eso específic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é o peso dos resíduos em função do volume por eles ocupados, expresso em kg;/m³. Sua determinação é fundamental para o dimensionamento de equipamentos e instalaçõ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or de umidade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sta característica tem influência decisiva, principalmente nos processos de tratamento e destinação do lixo. Varia muito em função das estações do ano e da incidência de chuv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0920" y="2340000"/>
            <a:ext cx="856908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mpressibilidade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também conhecida como grau de compactação, indica a redução de volume que uma massa de lixo pode sofrer, quando submetida a uma pressão determinada. A compressibilidade do lixo situa-se entre 1:3 e 1:4 para uma pressão equivalente a 4 kg/c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Tais valores são utilizados para dimensionamento de equipamentos compactador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Geração per capita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relaciona quantidade do lixo gerado diariamente e o número de habitantes de determinada região. Muitos técnicos consideram de 0,5 a 0,8 kg/habitante/dia como a faixa de variação média para o Brasi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412200" y="1557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50920" y="2133720"/>
            <a:ext cx="57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oder calorífic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a capacidade potencial de um material desprender determinada quantidade de calor quando submetido à queim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411480" y="1557360"/>
            <a:ext cx="286920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quí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250920" y="3573360"/>
            <a:ext cx="8569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otencial de hidrogênio (pH)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o teor de acidez ou alcalinidade do materi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ores de cinzas, matéria orgânica, carbono, nitrogênio, potássio, cálcio, fósforo, resíduo mineral total, resíduo mineral solúvel e gordu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lação C/N ou relação carbono/nitrogêni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o grau de decomposição da matéria orgânica do lixo nos processos de tratamento/disposição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5" descr=""/>
          <p:cNvPicPr/>
          <p:nvPr/>
        </p:nvPicPr>
        <p:blipFill>
          <a:blip r:embed="rId6"/>
          <a:stretch/>
        </p:blipFill>
        <p:spPr>
          <a:xfrm>
            <a:off x="6156360" y="981000"/>
            <a:ext cx="25430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10760" y="1557360"/>
            <a:ext cx="3010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bi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250920" y="220500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estudo da população microbiana e dos agentes patogênicos presentes no lixo urbano, ao lado das suas características químicas, permite que sejam discriminados os métodos de tratamento e disposição mais adequados. Nessa área são necessários procedimentos de pesqui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"/>
          <p:cNvPicPr/>
          <p:nvPr/>
        </p:nvPicPr>
        <p:blipFill>
          <a:blip r:embed="rId3"/>
          <a:stretch/>
        </p:blipFill>
        <p:spPr>
          <a:xfrm>
            <a:off x="2987640" y="4005360"/>
            <a:ext cx="3529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250920" y="202248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aioria das cidades brasileiras não tem condições de montar laboratórios maravilhosos onde sejam feitas todas as análises como manda o figurino. Por isso serão alinhados em seguida alguns procedimentos práticos que podem auxiliar na determinação do peso específico, composição gravimétrica e teor de umidade do lixo urban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250920" y="4379760"/>
            <a:ext cx="8569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vem ser selecionadas algumas amostras de lixo “solto”, provenientes de diferentes áreas de coleta, a fim de conseguir resultados que se aproximem o máximo possível da real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amostras serão misturadas, com auxílio de pás e enxadas, num mesmo “lote” , rasgando-se os sacos plásticos, caixas de papelão, caixotes, etc. e materiais assemelhados que porventura exist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50920" y="1844640"/>
            <a:ext cx="8569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assa de resíduos será dividida em quatro partes. Um dos quartos resultantes será escolhido para nova divisão em quatro partes e assim por diante. O processo se chama quarte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quarteamentos cessarão quando o volume de cada uma das partes for de aproximadamente 1 m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8713800" cy="1998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4"/>
          <p:cNvSpPr/>
          <p:nvPr/>
        </p:nvSpPr>
        <p:spPr>
          <a:xfrm>
            <a:off x="250920" y="58960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uma das quatro partes do material será separada para anál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6:28Z</dcterms:modified>
  <cp:revision>196</cp:revision>
  <dc:subject/>
  <dc:title>Slide 1</dc:title>
</cp:coreProperties>
</file>